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BE774B-CA48-48BD-B787-7C78AD82C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6A5077-FE24-4D14-B7A5-CD25CE6C0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</a:pPr>
            <a:fld id="{360C3DDF-F9A0-4355-B231-BAA0DD068865}" type="slidenum">
              <a:rPr b="0" lang="en-NZ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6960" cy="3425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imed at giving them a better understanding of each other, their expectations and hopes for their marriage and what is important to each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re is no Pass or F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 sheets are destroyed after the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ate and Name/Number of facilitators are given to them as they leave tonight so they can contact them to arrange a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DEF-23C9-4912-979E-3965B42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49D-7759-4067-9EBA-C8F2815C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EFF-CA7F-4D25-81A2-DC218821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34E-B4A0-4337-B2DB-DCB98379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61B7-360B-4835-88D0-79231651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F3A6-F5E8-4B2D-ACEB-1BB8768C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C29-5BFD-49D3-84B8-D8DEC46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6291-829C-403B-937E-D6961C76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4635-352F-42E8-9C07-6274A90A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A04D-827C-4520-AD2C-51ADCD8F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BED2-3CC4-478A-A842-ADFCAA3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E38-1566-4F75-B2AF-4A9888B6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07EE-B6F4-47EA-9CAA-DDC7688F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DA02-51B5-4F39-B004-B936B335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ED42-A7D3-457C-B076-6D51FA5E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21DD-F49C-4321-BBEF-0EEC7FDD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9645-7F63-4216-92D1-676195E1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5470-BF6C-40A8-A89F-7D5C23E4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7223-A298-46CB-B2D0-3BB4D803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DD80-E60B-4673-8692-B002BBD2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B1A1-F7B2-4DEA-A0D4-31F9D9CA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7202-ED5F-4229-ABD2-A2E7116A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B48-A27B-4598-A314-528A7A80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355C-4A2E-4403-BCD4-09BA9EA9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0802-B543-4A24-873A-7DA835E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5810-DF12-4DA4-A115-279A243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803E-3C53-45AA-810D-0CDBA341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F534-A64D-4285-AF99-8EA0A528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0C33-43FA-4B2F-BD4F-9033BC25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C786-AA34-4B6A-AE9A-26EDE31F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534-80C8-4E75-81A6-E50A9BB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B89-B081-41AB-A70E-475B9350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350-1402-4948-B92B-A90888CE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E75-B356-4F6A-9BEA-609C9FD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CB4-2785-472F-905C-4F424390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4DD-F6DA-45DC-BC96-E9B4825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23233F-4B99-42D9-991E-7D47500A4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957016-BB02-4950-AB88-24C6F16F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A78F69-A67A-43F2-9F1B-A8395B265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240" cy="1353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800" rIns="91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OMMIT</a:t>
            </a:r>
            <a:br>
              <a:rPr sz="2300"/>
            </a:b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ommunication Inventory for Couples</a:t>
            </a:r>
            <a:br>
              <a:rPr sz="23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d in Auckland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800" rIns="91800" anchor="t">
            <a:noAutofit/>
          </a:bodyPr>
          <a:p>
            <a:pPr marL="392040" indent="-3920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 is a communication assessment inventory to be used as introduction to a skill’s enhancement cou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8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test – it cannot be failed. It raises issues for discussion; highlighting strengths, and areas of growth in relationsh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8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a snapshot of the relationship at this point in ti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8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need for honesty in answering the ques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80000"/>
              </a:lnSpc>
              <a:spcBef>
                <a:spcPts val="42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an opportunity for the couple to explore their relationship, to discuss results with each other and their possible impl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38120" y="2320920"/>
            <a:ext cx="8021160" cy="268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marL="387360" indent="-387360">
              <a:lnSpc>
                <a:spcPct val="100000"/>
              </a:lnSpc>
              <a:spcBef>
                <a:spcPts val="119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Arial"/>
              </a:rPr>
              <a:t>Contains a series of statements requiring a response of </a:t>
            </a:r>
            <a:r>
              <a:rPr b="0" i="1" lang="en-NZ" sz="2500" spc="-1" strike="noStrike">
                <a:solidFill>
                  <a:srgbClr val="000000"/>
                </a:solidFill>
                <a:latin typeface="Arial"/>
              </a:rPr>
              <a:t>(D) Disagree, (U) Uncertain or (A) Agr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Arial"/>
              </a:rPr>
              <a:t>Facilitators encourage discussion between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Arial"/>
              </a:rPr>
              <a:t>Certificate of completion issu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70120" y="641520"/>
            <a:ext cx="7033680" cy="201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50"/>
              </a:spcBef>
            </a:pPr>
            <a:r>
              <a:rPr b="1" lang="en-NZ" sz="3900" spc="-1" strike="noStrike">
                <a:solidFill>
                  <a:srgbClr val="0000ff"/>
                </a:solidFill>
                <a:latin typeface="Arial"/>
              </a:rPr>
              <a:t>COMMIT INVENTORY</a:t>
            </a:r>
            <a:r>
              <a:rPr b="1" lang="en-N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7772040" cy="42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800" rIns="91800" anchor="t">
            <a:noAutofit/>
          </a:bodyPr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private session, held at Facilitators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follow-up session is confidential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the couple, the facilitators and wedding celebrant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ll papers will be destroyed after the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rmally takes 2 to 3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NZ" sz="20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38120" y="250920"/>
            <a:ext cx="8267400" cy="220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800" rIns="91800" anchor="ctr">
            <a:noAutofit/>
          </a:bodyPr>
          <a:p>
            <a:pPr indent="0" algn="ctr">
              <a:lnSpc>
                <a:spcPct val="100000"/>
              </a:lnSpc>
              <a:spcBef>
                <a:spcPts val="1551"/>
              </a:spcBef>
              <a:buNone/>
            </a:pPr>
            <a:r>
              <a:rPr b="1" lang="en-NZ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3100" spc="-1" strike="noStrike">
                <a:solidFill>
                  <a:srgbClr val="ff0000"/>
                </a:solidFill>
                <a:latin typeface="Arial"/>
              </a:rPr>
              <a:t>The Commit follow-up session is</a:t>
            </a:r>
            <a:br>
              <a:rPr sz="3100"/>
            </a:br>
            <a:r>
              <a:rPr b="1" lang="en-NZ" sz="3100" spc="-1" strike="noStrike">
                <a:solidFill>
                  <a:srgbClr val="ff0000"/>
                </a:solidFill>
                <a:latin typeface="Arial"/>
              </a:rPr>
              <a:t>confident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ful aspects of the Commit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119720" cy="38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breaker questions to introduc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section with suppor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for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home workbook for couples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note during the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Skill’s enhancement cour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riety of skill’s enhancement courses is offered throughout the coun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s are held either weekly for a six week period, or on two  Saturdays or Sundays; in general they cover the following top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ing our ori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a shared understanding of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ourselves, intimat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ng with difference/ Conflict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imacy/Sex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rament of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mary role of the facilitator is to guide the couple through the Commit-programme in a safe and non-judgment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ersonally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the material, the process and the Holy Spi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ly welcome the co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, comfortable environment; good sense of humor he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/listen for: dominance/ shyness/ misunderstanding/ anger/ escap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ing ‘preachy’ or ‘professo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we are not counsel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edback from engaged couples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s provided a great checklist of things we should know or think about and flagged some topics, we had just assumed, we knew what the other wanted or felt. Reinforced our compat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stions focused on issues to discuss. It helped to understand our relationship and how we work well and what we can work on to improve our relationship/marri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d us think about things we wouldn’t necessarily talk about on 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d how well we know each other and confirmed we are making the right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non Catholic, I found the course helpful in opening up views on religion and new interest in religion( wow, from m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ed back from engaged couples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alking about what we agreed on and disagreed on. It was helpful because we got a sense of how each other felt. Better for ou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a real eye opener and it helped us talk/discuss issues and topics that we had not talked about or had avoided talking abo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helpful when it comes to a neutral ear. The programme addresses what needs to be resolved before and after marriage. I would recommend it to everyone(from a Presbyterian marrying at St Luke’s Presbyterian Church, Remu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y the facilitators delivered the course was warm and friendly and non judgmental. Open and honest conversations helped to identify strengths and areas of impr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ssion made us aware of our differences and we spoke about our expectations and ways to resolve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from facilitator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simple, easy to compr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oring and graph very 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with Flag 3 give an opportunity to positively promote skill’s enhancement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is well set out and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introducing each session tends to open up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  <Words>683</Words>
  <Paragraphs>89</Paragraphs>
  <Company>CD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1:38:49Z</dcterms:created>
  <dc:creator>Tonny Flapper</dc:creator>
  <dc:description/>
  <dc:language>en-US</dc:language>
  <cp:lastModifiedBy>Tonny Flapper</cp:lastModifiedBy>
  <dcterms:modified xsi:type="dcterms:W3CDTF">2012-06-13T02:15:3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9</vt:r8>
  </property>
</Properties>
</file>