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5D68787-90FA-480A-A42F-DCFCBF939A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9235E14-E9DD-4AA3-B6A4-156836D963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</a:pPr>
            <a:fld id="{05D4BE5E-17E4-4D6E-A644-988C375C80E0}" type="slidenum">
              <a:rPr b="0" lang="en-NZ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6960" cy="34254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imed at giving them a better understanding of each other, their expectations and hopes for their marriage and what is important to each of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re is no Pass or Fa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nswer sheets are destroyed after the ses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ate and Name/Number of facilitators are given to them as they leave tonight so they can contact them to arrange a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8E0F-679E-4C06-A70C-A357A0FD5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1D2F-C87D-44E9-906A-F3F05D401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EDFB-2331-4520-93EF-3AC4DC3B4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3963-28D7-40B7-A317-38896EF7C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23B78-255A-4F63-9263-312A27521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38C24-7875-4979-9D4D-7CCF396DA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B0B1B-BA1D-440F-9FC5-FD599A419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02071-728A-45D8-A9AA-5ECCF09C6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AF2CF-A1A7-4566-89AA-4353833FF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91743-6BBA-4EBE-9098-CE65A3365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17F66-A7D3-46C2-B8DB-E21B9B173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CBE2-2050-40B1-884D-AC2AF9526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3588B-F3E4-496D-BC34-C568CF82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A84CF-A08A-4676-B6D4-B8AB0E80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FDE5A-8539-43DB-95CD-B4E6D4017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EC86C-F6A6-4C57-B1B1-1DA2327C9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69C4E-A528-4B26-8769-120E06688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18E38-C059-4DC3-A214-1DA2CDD9F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C5504-414B-4AF6-B2A9-E05357A24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2005B-E108-4FE2-AB19-AD11E2A28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1217F-3E8C-45E3-8CB4-E5C7BEB05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334E2-BADF-4A1F-AE8E-9AC13F608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55C6-E64D-421D-B983-A97DC3DB5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8112D-9C7F-4504-8B80-6D2FF4B6F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A1897-6699-43B4-9D27-5CC264D49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F7EF2-C613-4A1D-A556-A2B027AF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B12D8-5252-49A6-A4B1-9B361FAD5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88421-23E6-45A1-A463-91B90C5E3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FE613-5BBE-46BB-AD15-2916B6084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C907E-C59C-468E-A4DF-14BF41DF9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F8C0-406A-403D-8490-2523FEE0D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6184-1B68-4294-ABD4-64EDE1E60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D349-877E-40F6-B1D6-55325E7CC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8AC5-1C6B-4B54-B23B-144C228C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05AC-AE0F-410C-BAD0-B2B43CCC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0CFD-3A16-4B6F-9EFB-D07D9F74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55321B0-71C9-4E88-85C4-0ED66BCB54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CF36D38-BE12-491C-94B5-99DF4446EB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073F2A8-16AC-465E-A1CD-01EF8AB64F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240" cy="1353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1800" rIns="918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COMMIT</a:t>
            </a:r>
            <a:br>
              <a:rPr sz="2300"/>
            </a:b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Communication Inventory for Couples</a:t>
            </a:r>
            <a:br>
              <a:rPr sz="23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veloped in Auckland in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1800" rIns="91800" anchor="t">
            <a:noAutofit/>
          </a:bodyPr>
          <a:p>
            <a:pPr marL="392040" indent="-39204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it is a communication assessment inventory to be used as introduction to a skill’s enhancement cour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2040" indent="-392040">
              <a:lnSpc>
                <a:spcPct val="80000"/>
              </a:lnSpc>
              <a:spcBef>
                <a:spcPts val="42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 test – it cannot be failed. It raises issues for discussion; highlighting strengths, and areas of growth in relationship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92040" indent="0">
              <a:lnSpc>
                <a:spcPct val="80000"/>
              </a:lnSpc>
              <a:spcBef>
                <a:spcPts val="420"/>
              </a:spcBef>
              <a:buNone/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92040" indent="-392040">
              <a:lnSpc>
                <a:spcPct val="80000"/>
              </a:lnSpc>
              <a:spcBef>
                <a:spcPts val="42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t is a snapshot of the relationship at this point in tim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92040" indent="0">
              <a:lnSpc>
                <a:spcPct val="80000"/>
              </a:lnSpc>
              <a:spcBef>
                <a:spcPts val="420"/>
              </a:spcBef>
              <a:buNone/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92040" indent="-392040">
              <a:lnSpc>
                <a:spcPct val="80000"/>
              </a:lnSpc>
              <a:spcBef>
                <a:spcPts val="42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re is a need for honesty in answering the ques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0"/>
              </a:spcBef>
              <a:buNone/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92040" indent="-392040">
              <a:lnSpc>
                <a:spcPct val="80000"/>
              </a:lnSpc>
              <a:spcBef>
                <a:spcPts val="42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t is an opportunity for the couple to explore their relationship, to discuss results with each other and their possible implica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438120" y="2320920"/>
            <a:ext cx="8021160" cy="2689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t">
            <a:spAutoFit/>
          </a:bodyPr>
          <a:p>
            <a:pPr marL="387360" indent="-387360">
              <a:lnSpc>
                <a:spcPct val="100000"/>
              </a:lnSpc>
              <a:spcBef>
                <a:spcPts val="119"/>
              </a:spcBef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NZ" sz="2500" spc="-1" strike="noStrike">
                <a:solidFill>
                  <a:srgbClr val="000000"/>
                </a:solidFill>
                <a:latin typeface="Arial"/>
              </a:rPr>
              <a:t>Contains a series of statements requiring a response of </a:t>
            </a:r>
            <a:r>
              <a:rPr b="0" i="1" lang="en-NZ" sz="2500" spc="-1" strike="noStrike">
                <a:solidFill>
                  <a:srgbClr val="000000"/>
                </a:solidFill>
                <a:latin typeface="Arial"/>
              </a:rPr>
              <a:t>(D) Disagree, (U) Uncertain or (A) Agre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"/>
              </a:spcBef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NZ" sz="2500" spc="-1" strike="noStrike">
                <a:solidFill>
                  <a:srgbClr val="000000"/>
                </a:solidFill>
                <a:latin typeface="Arial"/>
              </a:rPr>
              <a:t>Facilitators encourage discussion between you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"/>
              </a:spcBef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NZ" sz="2500" spc="-1" strike="noStrike">
                <a:solidFill>
                  <a:srgbClr val="000000"/>
                </a:solidFill>
                <a:latin typeface="Arial"/>
              </a:rPr>
              <a:t>Certificate of completion issu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870120" y="641520"/>
            <a:ext cx="7033680" cy="2019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t">
            <a:spAutoFit/>
          </a:bodyPr>
          <a:p>
            <a:pPr algn="ctr">
              <a:lnSpc>
                <a:spcPct val="100000"/>
              </a:lnSpc>
              <a:spcBef>
                <a:spcPts val="1400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950"/>
              </a:spcBef>
            </a:pPr>
            <a:r>
              <a:rPr b="1" lang="en-NZ" sz="3900" spc="-1" strike="noStrike">
                <a:solidFill>
                  <a:srgbClr val="0000ff"/>
                </a:solidFill>
                <a:latin typeface="Arial"/>
              </a:rPr>
              <a:t>COMMIT INVENTORY</a:t>
            </a:r>
            <a:r>
              <a:rPr b="1" lang="en-NZ" sz="3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611280" y="2060640"/>
            <a:ext cx="7772040" cy="4247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1800" rIns="91800" anchor="t">
            <a:noAutofit/>
          </a:bodyPr>
          <a:p>
            <a:pPr marL="53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A private session, held at Facilitators h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The follow-up session is confidential betwe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Arial"/>
              </a:rPr>
              <a:t>the couple, the facilitators and wedding celebrant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All papers will be destroyed after the ses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Normally takes 2 to 3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NZ" sz="2000" spc="-1" strike="noStrike">
                <a:solidFill>
                  <a:srgbClr val="ff66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438120" y="250920"/>
            <a:ext cx="8267400" cy="2206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1800" rIns="91800" anchor="ctr">
            <a:noAutofit/>
          </a:bodyPr>
          <a:p>
            <a:pPr indent="0" algn="ctr">
              <a:lnSpc>
                <a:spcPct val="100000"/>
              </a:lnSpc>
              <a:spcBef>
                <a:spcPts val="1551"/>
              </a:spcBef>
              <a:buNone/>
            </a:pPr>
            <a:r>
              <a:rPr b="1" lang="en-NZ" sz="3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NZ" sz="3100" spc="-1" strike="noStrike">
                <a:solidFill>
                  <a:srgbClr val="ff0000"/>
                </a:solidFill>
                <a:latin typeface="Arial"/>
              </a:rPr>
              <a:t>The Commit follow-up session is</a:t>
            </a:r>
            <a:br>
              <a:rPr sz="3100"/>
            </a:br>
            <a:r>
              <a:rPr b="1" lang="en-NZ" sz="3100" spc="-1" strike="noStrike">
                <a:solidFill>
                  <a:srgbClr val="ff0000"/>
                </a:solidFill>
                <a:latin typeface="Arial"/>
              </a:rPr>
              <a:t>confidentia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elpful aspects of the Commit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684360" y="1989000"/>
            <a:ext cx="7119720" cy="3816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ebreaker questions to introduce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categ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urce section with support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rial for the facilit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home workbook for couples to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note during the ses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200" spc="-1" strike="noStrike">
                <a:solidFill>
                  <a:srgbClr val="ff0000"/>
                </a:solidFill>
                <a:latin typeface="Arial"/>
              </a:rPr>
              <a:t>Skill’s enhancement cours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variety of skill’s enhancement courses is offered throughout the countr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urses are held either weekly for a six week period, or on two  Saturdays or Sundays; in general they cover the following topic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oring our orig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ing a shared understanding of Marri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ing ourselves, intimate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ing with difference/ Conflict re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imacy/Sex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crament of Marri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imary role of the facilitator is to guide the couple through the Commit-programme in a safe and non-judgmental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personally se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 the material, the process and the Holy Spir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rmly welcome the co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with a pr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relaxed, comfortable environment; good sense of humor hel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ch/listen for: dominance/ shyness/ misunderstanding/ anger/ escap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being ‘preachy’ or ‘professor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ember that we are not counsell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confidenti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eedback from engaged couples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questions provided a great checklist of things we should know or think about and flagged some topics, we had just assumed, we knew what the other wanted or felt. Reinforced our compati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questions focused on issues to discuss. It helped to understand our relationship and how we work well and what we can work on to improve our relationship/marri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ed us think about things we wouldn’t necessarily talk about on our ow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rified how well we know each other and confirmed we are making the right dec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a non Catholic, I found the course helpful in opening up views on religion and new interest in religion( wow, from me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</a:rPr>
              <a:t>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eed back from engaged couples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liked talking about what we agreed on and disagreed on. It was helpful because we got a sense of how each other felt. Better for our relation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as a real eye opener and it helped us talk/discuss issues and topics that we had not talked about or had avoided talking abou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remely helpful when it comes to a neutral ear. The programme addresses what needs to be resolved before and after marriage. I would recommend it to everyone(from a Presbyterian marrying at St Luke’s Presbyterian Church, Remue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ay the facilitators delivered the course was warm and friendly and non judgmental. Open and honest conversations helped to identify strengths and areas of improv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ssion made us aware of our differences and we spoke about our expectations and ways to resolve iss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edback from facilitator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ments simple, easy to compreh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r scoring and graph very 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es with Flag 3 give an opportunity to positively promote skill’s enhancement cou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al is well set out and easy to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s introducing each session tends to open up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Default Design">
  <a:themeElements>
    <a:clrScheme name="Default Design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Default Design">
  <a:themeElements>
    <a:clrScheme name="Default Design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Default Design">
  <a:themeElements>
    <a:clrScheme name="Default Design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  <Words>683</Words>
  <Paragraphs>89</Paragraphs>
  <Company>CDA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9T01:38:49Z</dcterms:created>
  <dc:creator>Tonny Flapper</dc:creator>
  <dc:description/>
  <dc:language>en-US</dc:language>
  <cp:lastModifiedBy>Tonny Flapper</cp:lastModifiedBy>
  <dcterms:modified xsi:type="dcterms:W3CDTF">2012-06-13T02:15:35Z</dcterms:modified>
  <cp:revision>2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On-screen Show (4:3)</vt:lpwstr>
  </property>
  <property fmtid="{D5CDD505-2E9C-101B-9397-08002B2CF9AE}" pid="4" name="Slides">
    <vt:r8>9</vt:r8>
  </property>
</Properties>
</file>